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22.jpeg" ContentType="image/jpeg"/>
  <Override PartName="/ppt/media/image1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15.png" ContentType="image/pn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C25-9F14-4D82-935A-29988F4D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C5A-8EA2-4B2B-9E17-73DA5623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53D-2C62-4C3C-8C05-D1BA4B0C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7A2-29F3-4005-A673-ABED9A47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E0EB-D037-4D5E-866F-0656334D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567-47BB-4C97-B059-45CF96A5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207D-6E3B-49F4-844B-54198D34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8BDB-4D74-4E0E-846A-E536EADB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3B01-4362-4BAC-80CC-55A62D84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E4DE-6185-46AE-9C74-3D9768FE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CAE1-BDDD-49A5-A47F-3CF27DC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49C-0F60-4460-A98D-399AD928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10E-95EE-4D4E-B336-496F14EC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2EAD-E86D-4FE1-8F6D-38FE0524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949A-4E25-444A-94D9-A0BCC3BA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9B62-D81C-4170-8143-3E610C91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22D0-AFDF-44BB-9274-69000F07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D68-3613-499C-825A-938D79AF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29D-AAB8-4D1C-A6E7-E050DFC1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74F-EF67-4CD9-8489-188184A0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9D1-08D8-40BD-8EAF-392756F4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FAE-5CC4-40A8-BB46-02B58E8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C66-D3C7-43B1-A8FF-B8EC8F1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1D2-D162-4902-A1B4-5D2B102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9AD9-F8D1-4EBF-9256-9341267EC3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7EEC-636E-49B6-9129-7879AF266B3A}" type="slidenum">
              <a:rPr b="0" lang="ru-RU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368280"/>
            <a:ext cx="7010280" cy="22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Как остановить насилие в школе 10 шаг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419720" y="3123720"/>
            <a:ext cx="2743200" cy="3351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Семенько С.П., социальный педагог МБОУ СОШ № 10 ст.Павловско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Скругленный прямоугольник 5">
            <a:hlinkClick r:id="rId1"/>
          </p:cNvPr>
          <p:cNvSpPr/>
          <p:nvPr/>
        </p:nvSpPr>
        <p:spPr>
          <a:xfrm>
            <a:off x="4724280" y="6095880"/>
            <a:ext cx="14479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2019 год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34316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3"/>
          <a:stretch/>
        </p:blipFill>
        <p:spPr>
          <a:xfrm>
            <a:off x="380880" y="3124080"/>
            <a:ext cx="2519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808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Уровни профилактики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7c80"/>
                </a:solidFill>
                <a:latin typeface="Arial"/>
              </a:rPr>
              <a:t>Первичная профилактика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1. Изучение механизмов формирования материнского и отцовского поведения, типа семьи и воспитани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2. Изучение и коррекция нарушения материнско-детских отношений, которые служат причиной снижения эмоционального благополучия ребенка и отклонений в его оптимальном психическом развитии в младенческом, раннем и дошкольном возрасте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3. Формирование здорового жизненного стиля, высокофункциональных стратегий поведения и личностных ресурсов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4. Направленное осознание имеющихся личностных ресурсов, способствующих формированию здорового жизненного стиля и высокоэффективного поведени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5. Развитие личностных ресурсов, способствующих формированию здорового жизненного стиля и высокоэффективного поведени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6. Развитие высокоэффективных стратегий и навыков поведени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458200" cy="582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7c80"/>
                </a:solidFill>
                <a:latin typeface="Arial"/>
              </a:rPr>
              <a:t>Вторичная профилактика: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1. раннее вмешательство в коррекцию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клинико-биологических нарушений у ребенка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2. исследование генограммы  семь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3. коррекция семейных отношений, физических и эмоциональных связей, определение детско-родительских границ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4. определение четких семейных ролей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7c80"/>
                </a:solidFill>
                <a:latin typeface="Arial"/>
              </a:rPr>
              <a:t>Третичная профилактика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проводится в отношении подростков, совершивших правонарушение, и её целью является коррекция поведения подростка и его развитие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Основные факторы, провоцирующие жестокость в ученическом сообществ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6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нутриличностная агрессивность учащихся, зависящая от индивидуальных особенностей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редшествующий опыт жизнедеятельности школьников, включающий в себя проявления собственной агрессивности и наблюдения аналогичных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роявлений в ближайшем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кружени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5" name="Picture 4" descr="story"/>
          <p:cNvPicPr/>
          <p:nvPr/>
        </p:nvPicPr>
        <p:blipFill>
          <a:blip r:embed="rId1"/>
          <a:stretch/>
        </p:blipFill>
        <p:spPr>
          <a:xfrm>
            <a:off x="6172200" y="4572000"/>
            <a:ext cx="23050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едостаточный уровень развития коммуникативных навыков, в том числе отсутствие примеров и опыта ненасильственных взаимоотношений и знаний о собственных правах;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традиции школьной среды, провоцирующие и стимулирующие жестокость. </a:t>
            </a:r>
            <a:r>
              <a:rPr b="0" lang="ru-RU" sz="3000" spc="-1" strike="noStrike">
                <a:solidFill>
                  <a:srgbClr val="ff7c80"/>
                </a:solidFill>
                <a:latin typeface="Arial"/>
              </a:rPr>
              <a:t>К ним следует отнести</a:t>
            </a:r>
            <a:r>
              <a:rPr b="0" lang="ru-RU" sz="3000" spc="-1" strike="noStrike">
                <a:solidFill>
                  <a:srgbClr val="d8d8ec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962520" y="4800600"/>
            <a:ext cx="2590560" cy="1447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а) общий психоэмоциональный фон учреждения образования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б) «политическую» систему учреждения образования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) систему взаимоотношений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нутри классного коллектива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д) наличие общепризнанных социальных ролей, включающих роли «жертвы» и «хозяина»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е) традиции в социуме, пропагандируемые средствами массовой информации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4" descr="bullying_250"/>
          <p:cNvPicPr/>
          <p:nvPr/>
        </p:nvPicPr>
        <p:blipFill>
          <a:blip r:embed="rId1"/>
          <a:stretch/>
        </p:blipFill>
        <p:spPr>
          <a:xfrm>
            <a:off x="6400800" y="2438280"/>
            <a:ext cx="2381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960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cc00"/>
                </a:solidFill>
                <a:latin typeface="Arial"/>
              </a:rPr>
              <a:t>Идеи ненасильственного</a:t>
            </a:r>
            <a:r>
              <a:rPr b="1" lang="ru-RU" sz="36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ccc00"/>
                </a:solidFill>
                <a:latin typeface="Arial"/>
              </a:rPr>
              <a:t>обучения и воспитани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рушения дисциплины, агрессивность, и т.д. – это важнейшие проявления, свидетельствующие о том, что ребенок не подчиняется (принудительной) системе школьных занятий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Picture 4" descr="m_16432"/>
          <p:cNvPicPr/>
          <p:nvPr/>
        </p:nvPicPr>
        <p:blipFill>
          <a:blip r:embed="rId1"/>
          <a:stretch/>
        </p:blipFill>
        <p:spPr>
          <a:xfrm>
            <a:off x="5029200" y="4419720"/>
            <a:ext cx="33526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еобходимо постоянно заинтересовывать школьников учебным материалом, давать им возможность проявлять спонтанность и самостоятельность, а так же приобретать навыки эффективного общения и кооперирования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41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3581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7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е требовать работы от учеников, а работать вместе с ними. Дать учащимся возможность перенять рабочую позицию путем идентификации себя с (любимым)  учителем, а не путем исполнения (абстрактных) требований «сверх – Я», проявляющихся в процессе педагогического манипулирования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952880" y="4038480"/>
            <a:ext cx="3200400" cy="1874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Создавать специальные ситуации, чтобы повысить самооценку детей, показать, что ошибаться не страшно, при желании все можно изменить к лучшему, исправить.  Учитель выступает не с позиции «сверху», а рядом. Он — друг, помощник, ему можно иногда и ошибаться, а детям разрешается с ним не соглашаться или исправлять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Чувство защищенности и безопасности и развитие согласно природным свойствам ребенка – это лучшая профилактика любых психологических проблем. Это то, что дает ребенку комфортное внутреннее состояние, в котором он, с одной стороны, не способен испытывать жгучую неприязнь, приводящую к насилию в школе, а с другой, не является слабым звеном, провоцирующим агрессию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6324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543800" cy="960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Насилие в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школе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d8d8ec"/>
                </a:solidFill>
                <a:latin typeface="Arial"/>
              </a:rPr>
              <a:t>Школьное насилие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– это вид насилия, при котором имеет место применение силы между детьми или учителями по отношению к ученикам или – что в нашей культуре встречается крайне редко – учениками по отношению к учителю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силием является любое поведение, которое нарушает права другого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160"/>
          <p:cNvPicPr/>
          <p:nvPr/>
        </p:nvPicPr>
        <p:blipFill>
          <a:blip r:embed="rId1"/>
          <a:stretch/>
        </p:blipFill>
        <p:spPr>
          <a:xfrm>
            <a:off x="6629400" y="4800600"/>
            <a:ext cx="220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373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cc00"/>
                </a:solidFill>
                <a:latin typeface="Arial"/>
              </a:rPr>
              <a:t>Агресси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рассматривается как одна из основных биологических функций, определяющая способность индивида к целеустремленным действиям в межиндивидуальной сфере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87631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4"/>
          <p:cNvSpPr/>
          <p:nvPr/>
        </p:nvSpPr>
        <p:spPr>
          <a:xfrm>
            <a:off x="990720" y="304920"/>
            <a:ext cx="67053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реализации агрессии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152280" y="2819520"/>
            <a:ext cx="266724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лемость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 агресси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индивида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стоять вредным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го воздействиям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048120" y="2819520"/>
            <a:ext cx="281916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, связанное с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ением морально-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ческих норм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е агресси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ушение и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ормация отношений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кружающим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утствуют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нквентны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риминальные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ы поведения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существенную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играют различные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ые расстройства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5880" y="2819520"/>
            <a:ext cx="274320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уровень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й активност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ое развитие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денческих навыков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ющих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рессивных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уждений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Oval 12"/>
          <p:cNvSpPr/>
          <p:nvPr/>
        </p:nvSpPr>
        <p:spPr>
          <a:xfrm>
            <a:off x="228600" y="1600200"/>
            <a:ext cx="25146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руктивна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3124080" y="1600200"/>
            <a:ext cx="25146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еструктивна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095880" y="1600200"/>
            <a:ext cx="25146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ефицитарна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1447920" y="259092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7467480" y="259092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d8d8ec"/>
                </a:solidFill>
                <a:latin typeface="Arial"/>
              </a:rPr>
              <a:t>Система психолого-педагогической профилактики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8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диагностика психоэмоциональной среды и мотивационно-образовательная работа с администрацией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консультативно-образовательная работа с педагогическими кадрами и родителям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консультативно-коррекционная работа с детьми, подвергшимися жестокому обращению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нформационно-образовательная работа с детьм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формирование психоэмоциональной среды учебного заведения, которая включает систему взаимоотношений между всеми субъектами образовательного процесса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Мероприятия, направленные на сплочение школьного сообщества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Улучшение психологического климата в школе;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овышение психолого-педагогической компетентности взрослых (родителей, педагогов);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овышение уровня коммуникативной культуры обучающихся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Работа с личностными конструктами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рофилактика и коррекция отклонений в эмоциональной сфере подростков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снижение асоциального поведения школьников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звитие стрессоустойчивых качеств личности обучающихся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формирование здорового жизненного стиля, высокофункциональных стратегий и навыков поведения; навыков оценки социальной ситуации и принятия ответственности за собственное поведение в ней; навыков восприятия, использования и оказания психологической и социальной поддержки; навыков отстаивания своих границ и защиты своего персонального пространства; навыков защиты своего Я, самоподдержки и взаимоподдержки; навыков бесконфликтного и эффективного общения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направленное осознание и развитие имеющихся личностных ресурсов, способствующих формированию здорового жизненного стиля и высокоэффективного поведения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В содержание психолого-педагогического модуля включены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психолого-педагогические подходы к коррекции агрессивного поведения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рекомендации по коррекции агрессивного поведения подрост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рекомендации по работе с детьми, склонными к суицидальному поведению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рекомендации по профилактике тревожности и страхов у детей и подрост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индивидуальная работа с ребенком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При работе с агрессивными подростками возможно использование следующих диагностических методик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просник Басса-Дарки (агрессивность)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Шкала реактивной и личностной тревожности Спилбергера-Ханина (тревожность)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Фрейбургская анкета на выявление склонности к агрессивному поведению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Тест «Склонности к риску»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«Шкала враждебности»  Кука-Медлей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ПДО (А.Е. Личко)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Методика экспресс-диагностики невроза (К.Хек и Х. Хесс)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229600" cy="1676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ри организации профилактики необходимо учитывать два 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основных </a:t>
            </a:r>
            <a:r>
              <a:rPr b="1" i="1" lang="ru-RU" sz="3000" spc="-1" strike="noStrike">
                <a:solidFill>
                  <a:srgbClr val="cccc00"/>
                </a:solidFill>
                <a:latin typeface="Arial"/>
              </a:rPr>
              <a:t>содержательных направления</a:t>
            </a:r>
            <a:r>
              <a:rPr b="1" lang="ru-RU" sz="3000" spc="-1" strike="noStrike">
                <a:solidFill>
                  <a:srgbClr val="cccc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762120" y="2362320"/>
            <a:ext cx="34290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нциальными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грессорами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едагоги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ольники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029200" y="2362320"/>
            <a:ext cx="34290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нциальными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ртвами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едагоги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ольники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Организация безопасной среды учебно-воспитательного процесса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</a:rPr>
              <a:t> Учитель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Двойная роль учителя -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уководит обучением и содействует развитию детей; исполняет  роль лидера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d8d8ec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</a:rPr>
              <a:t>Комплекс специальных мероприяти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при помощи педагогического коллектива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 Предание 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</a:rPr>
              <a:t>гласности</a:t>
            </a:r>
            <a:r>
              <a:rPr b="0" lang="ru-RU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актов насилия в школе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2666880" y="380880"/>
            <a:ext cx="3657600" cy="914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ольное насилие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3429000"/>
            <a:ext cx="3657600" cy="31240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мешки, присвоение кличек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конечные замечания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ъективные оценки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меивание, унижение в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утствии других детей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торжение, изоляция,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аз от общения с жертвой и 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648320" y="3352680"/>
            <a:ext cx="4038480" cy="32004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иение, нанесение удара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лепки, подзатыльники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ча и отнятие вещей и др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304920" y="1752480"/>
            <a:ext cx="3809880" cy="11430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Эмоциональное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сили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5029200" y="1676520"/>
            <a:ext cx="3581280" cy="11430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Физическо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сили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2971440" y="1371600"/>
            <a:ext cx="304920" cy="22860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5486400" y="1371600"/>
            <a:ext cx="228600" cy="22860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133720" y="2895480"/>
            <a:ext cx="0" cy="3049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6858000" y="2895480"/>
            <a:ext cx="0" cy="3049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практику школьной жизни необходимо вводить </a:t>
            </a:r>
            <a:r>
              <a:rPr b="1" i="1" lang="ru-RU" sz="3200" spc="-1" strike="noStrike">
                <a:solidFill>
                  <a:srgbClr val="ff7c80"/>
                </a:solidFill>
                <a:latin typeface="Arial"/>
              </a:rPr>
              <a:t>новые педагогические технологии, такие, как</a:t>
            </a: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7c80"/>
                </a:solidFill>
                <a:latin typeface="Arial"/>
              </a:rPr>
              <a:t>деловые и ролевые игры, психологические тренинги</a:t>
            </a:r>
            <a:r>
              <a:rPr b="0" lang="ru-RU" sz="3200" spc="-1" strike="noStrike">
                <a:solidFill>
                  <a:srgbClr val="d8d8e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Специфика: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здесь на равных принимают участие взрослые и подростки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такие игры предполагают высокий уровень самостоятельности и ответственности каждого участника, свободу и независимость его действий, постоянную необходимость осуществлять выбор и принимать решения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распределение ролей, не зависящее от возраста и социального статуса участников, моделирование непривычных систем взаимоотношений - все это дает возможность изменить существующее положение и по-новому выстроить отношения между детьми и взрослыми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43000" y="457200"/>
            <a:ext cx="510552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левые иг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9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По данным Р. Бэрон и Д. Ричардсон, тренинг социальных умений при агрессивном поведении заключается в следующих процедурах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1)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оделирование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, предполагающее демонстрацию лицам, не имеющим базовых социальных умений, примеров адекватного поведения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2)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ролевые игры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, предлагающие представить себя в ситуации, когда тре­буется реализация базовых умений, что дает возможность на практике проверить модели поведения, которым испытуемые обучились в процессе моделирования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3)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установление обратной связи 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— поощрения позитивного поведения («позитивное подкрепление»)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4)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перенесение навыков 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из учебной ситуации в реальную жизненную обстановку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1143000" y="457200"/>
            <a:ext cx="510552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нинг социальных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мени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686800" cy="579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В качестве мер по формированию ненасильственной среды образовательного учреждения выделяют так же: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расширение свобод и возможностей выбора видов деятельности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введение принципов «педагогики сотрудничества» и «педагогической поддержки»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расширение системы совместной деятельности всех субъектов образования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- создание психологического климата взаимного уважения и доверия. 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66"/>
                </a:solidFill>
                <a:latin typeface="Arial"/>
              </a:rPr>
              <a:t>Для решения проблемы необходимы следующие шаги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Учителя во время перемен должны внимательно следить за обстановкой на школьной территории, чтобы вовремя вмешаться; в классах должны быть разработаны обязательные для всех учеников правила, как вести себя при общении с друг другом; в случае выявления факта насилия должна быть проведена работа как с жертвой, так и с обидчиками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Работа с семье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 профилактике и предотвращении школьной травли велика роль родителей. Чтобы не сделать из своего ребенка ни жертву, ни обидчика, важно поддерживать у него адекватную самооценку, не унижать, не превозносить, стараться обсуждать школьные дела и отношения, не вынося безапелляционных оценок. Нужно рассматривать поведение ребенка и его одноклассников с разных позиций, обучая умению встать на место другого, почувствовать его переживания и в то же время помогая научиться регулировать свои действия, не поддаваться на провокацию, сказать «нет», если необходимо, обратиться за помощью к взрослым. Ведь очень часто наиболее страшные эпизоды школьной травли разворачиваются или в самой школе, или рядом с ней, а жертва терпит побои и унижения, стесняясь привлечь к себе внимание. Особенно важно со стороны родителей искренне интересоваться делами своего ребенка в классе, его ролями в классных делах, отношениями с одноклассниками, учителями, более старшими и более младшими детьми. Они не должны отмахиваться, как от незначимого и несерьезного, от возникающих проблем во взаимодействии ребенка со сверстниками. Такое бесчувствие со стороны близких может привести к трагедии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Следует помнить, чт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взрослый не сможет справиться с фактами насилия в школе. Победить собственное чувство бессилия и создать в школе атмосферу безопасности, можно только в том случае, если учителя и родители объединятся против насилия. Необходима системная работа на всех уровнях, тем не менее важен вклад каждого. Важно любое действие – от привлечения внимания к проблеме до конкретных действий в каждом случае. Если в школе найдется хотя бы один неравнодушный взрослый, ситуация может поменяться в лучшую сторону. Ну и самое главное - внутришкольные правила подчиняться которым следует всем!!!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564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акие способы защиты своего ребенка от насилия в школе не приносят результатов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ОГОВОРИТЬ С РОДИТЕЛЯМИ ДЕТЕЙ, ИЗДЕВАЮЩИХСЯ НАД РЕБЕНКОМ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. Естественно, каждый родитель будет защищать собственное дитя и всячески его выгораживать.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ОГОВОРИТЬ С САМИМИ ДЕТЬМИ - ОБИДЧИКАМИ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Родители, ищущие контакт с обидчиками, тем самым сигнализируют им, что сам ребенок не может противостоять их силе. Этим вы еще больше ослабите позицию своего сына (дочери).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НЕ СТОИТ БРАТЬ НА РАЗГОВОР С УЧИТЕЛЕМ РЕБЕНКА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. Как бы не был настроен преподаватель, ребенку такой разговор принесет лишь отрицательные чувства, он будет еще больше винить себя и отстранятся от всего остального мира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810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Arial"/>
              </a:rPr>
              <a:t>Школьный буллинг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ru-RU" sz="2100" spc="-1" strike="noStrike">
                <a:solidFill>
                  <a:srgbClr val="ff7c80"/>
                </a:solidFill>
                <a:latin typeface="Arial"/>
              </a:rPr>
              <a:t>Школьный буллинг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 –Травля (буллинг, моббинг) – агрессия одних детей против других, когда имеют место неравенство сил агрессора и жертвы, агрессия имеет тенденцию повторяться, при этом жертва сильно задета происходящим и не имеет возможности защитить себя в актуальной ситуации. Существенные признаки травли: неравенство сил, систематичность (повторяемость); неадекватно высокая чувствительность жертвы. Травля разнообразна, это не только физическая агрессия, скорее и чаще – психологическая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3962520" cy="2935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4419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66"/>
                </a:solidFill>
                <a:latin typeface="Arial"/>
              </a:rPr>
              <a:t>Буллинг и моббинг: отличия понятий</a:t>
            </a:r>
            <a:br>
              <a:rPr sz="3500"/>
            </a:b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Между этими двумя понятиями есть сходство: и буллинг, и моббинг подразумевает под собой травлю в коллективе, психологическое насилие над человеком. Однако есть существенная разница. Если при моббинге одному человеку противостоит целая группа людей, то при буллинге – только одна персона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Классификация различных видов насилия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Физическо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Сексуальное насилие или совращение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Психическое (эмоциональное) насилие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Пренебрежение интересами и нуждами ребенка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Picture 4" descr="03_01_00"/>
          <p:cNvPicPr/>
          <p:nvPr/>
        </p:nvPicPr>
        <p:blipFill>
          <a:blip r:embed="rId1"/>
          <a:stretch/>
        </p:blipFill>
        <p:spPr>
          <a:xfrm>
            <a:off x="5486400" y="4572000"/>
            <a:ext cx="3200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Стимулы к возникновению БУЛЛИНГА (МОББИНГА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дин из главных — это страх, являющийся одной из самых сильных наших эмоций. Не секрет, что в коллективе проявляется настороженное отношение к тем, кто "не такой, как все", "чужак". При этом  травля по причине такого страха не возникает в новых сообществах, где, по сути, еще нет разделения на "своих" и "чужих". А вот в устоявшемся коллективе реакция буллинга (моббинга) вполне вероятна, как только в группе появляется новичок с неординарным поведением или внешностью. Ещё одна причина моббинга — это безделье и скука. Когда члены группы, будь то школьный класс или взрослый коллектив, заняты выполнением поставленных перед ними задач, им просто нет нужды тратить время и силы на психологический террор. А личная невостребованность вполне может быть компенсирована агрессией .  Другой причиной, запускающей механизм буллинга (моббинга), является внутреннее напряжение всего коллектива. Оно возникает по самым разным причинам, но бесконечно копиться не может — требуется выход, разрядка. И как только один из членов группы спровоцирует негативный выплеск эмоций в свой адрес, то разовая агрессия, подогреваемая всеобщим напряжением, может перерасти в полновесную эмоциональную травлю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cc00"/>
                </a:solidFill>
                <a:latin typeface="Arial"/>
              </a:rPr>
              <a:t>Формы школьного буллинга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03848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1. Поведение ученика: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Физическая агрессия;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ловесный буллинг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Запугивание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золяция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могательство;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вреждение имущества. 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43400" y="1905120"/>
            <a:ext cx="464832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2. Поведение взрослых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нижения ученика, который не успевает/преуспевает в учёбе или уязвим в других отношениях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егативных или саркастических высказываний по поводу внешности/ происхождения ученика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страшающие и угрожающие жесты или выраж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Picture 6" descr="809198_1132928171"/>
          <p:cNvPicPr/>
          <p:nvPr/>
        </p:nvPicPr>
        <p:blipFill>
          <a:blip r:embed="rId1"/>
          <a:stretch/>
        </p:blipFill>
        <p:spPr>
          <a:xfrm>
            <a:off x="533520" y="48769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543800" cy="1036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Типичные черты учащихся, склонных становиться </a:t>
            </a:r>
            <a:r>
              <a:rPr b="1" lang="ru-RU" sz="2800" spc="-1" strike="noStrike">
                <a:solidFill>
                  <a:srgbClr val="d8d8ec"/>
                </a:solidFill>
                <a:latin typeface="Arial"/>
              </a:rPr>
              <a:t>булли</a:t>
            </a: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 (Д. Ольвеус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испытывают сильную потребность господствовать и подчинять себе других учеников, добиваясь таким путем своих целей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импульсивны и легко приходят в ярость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часто вызывающе и агрессивно ведут себя по отношению к взрослым, включая родителей и учителей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не испытывают сочувствия к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своим жертвам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- если это мальчики, они обычно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физически сильнее других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8d8ec"/>
                </a:solidFill>
                <a:latin typeface="Arial"/>
              </a:rPr>
              <a:t>мальчи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0" name="Picture 4" descr="89689062ac48"/>
          <p:cNvPicPr/>
          <p:nvPr/>
        </p:nvPicPr>
        <p:blipFill>
          <a:blip r:embed="rId1"/>
          <a:stretch/>
        </p:blipFill>
        <p:spPr>
          <a:xfrm>
            <a:off x="617220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48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(По И. Колмену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556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на уроке постоянно привлекает к себе внимание, вступает в пререкания при получении отрицательной отметки, вспыльчив и груб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манипулирует кругом друзей и знакомых, многие дети его боятся или заискивают перед ним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может лгать или жульничать, чтобы избежать ответственности за свои действия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на его поведение поступают жалобы как от детей, так и взрослых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прогуливает школу, часто бывает в компании сверстников из других школ, районов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входит в состав небольшой девиантной группы, терроризирующей класс или школу;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- спекулирует на непонимании, враждебном социуме, избегает общественно-полезной деятельности, поскольку это может быть истолковано как признак слабости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Наиболее часто </a:t>
            </a:r>
            <a:r>
              <a:rPr b="1" i="1" lang="ru-RU" sz="2800" spc="-1" strike="noStrike">
                <a:solidFill>
                  <a:srgbClr val="d8d8ec"/>
                </a:solidFill>
                <a:latin typeface="Arial"/>
              </a:rPr>
              <a:t>жертвами</a:t>
            </a:r>
            <a:r>
              <a:rPr b="1" i="1" lang="ru-RU" sz="2800" spc="-1" strike="noStrike">
                <a:solidFill>
                  <a:srgbClr val="cccc00"/>
                </a:solidFill>
                <a:latin typeface="Arial"/>
              </a:rPr>
              <a:t> школьного насилия становятся дети,</a:t>
            </a: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 имеющие: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физические недостатки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носящие очки, со сниженным слухом или с двигательными нарушениями (например, при ДЦП), то есть те, кто не может защитить себя, физически слабее своих ровесни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особенности поведения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замкнутые, чувствительные, застенчивые, тревожные дети или дети с импульсивным поведением, не уверены в себе, несчастны и имеют низкое самоуважение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особенности внешности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рыжие волосы веснушки, оттопыренные уши, кривые ноги, особая форма готовы, вес тела (полнота или худоба) и т.д.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неразвитые социальные навыки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часто не имеют ни одного близкого друга и успешнее общаются со взрослыми, нежели со сверстникам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страх перед школой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отсутствие опыта жизни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в коллективе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(домашние дети)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болезни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эпилепсию, тики и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гиперкинезы, заикание, энурез (недержание мочи), энкопрез (недержание кала), нарушения речи – дислалия (косноязычие), дисграфия (нарушение письменной речи), дислексия (нарушение чтения), дискалькулия (нарушение способности к счету) и т. д.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низкий интеллект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и трудности в обучен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6" name="Picture 4" descr="14684744-izgoy"/>
          <p:cNvPicPr/>
          <p:nvPr/>
        </p:nvPicPr>
        <p:blipFill>
          <a:blip r:embed="rId1"/>
          <a:stretch/>
        </p:blipFill>
        <p:spPr>
          <a:xfrm>
            <a:off x="5791320" y="1676520"/>
            <a:ext cx="2876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Поведение жертвы определяется по следующим показателям (И. Колмен)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его школьные принадлежности (учебники, тетради, личные вещи) часто бывают разбросаны по классу, или спрятаны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на уроках ведет себя скрытно, боязливо, когда отвечает, в классе начинают распространяться шум, помехи, комментари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во время перемены, в столовой, держится в стороне от других школьников, скрывается, убегает от сверстников и старших школьников, старается находиться недалеко от учителей, взрослых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его оскорбляют, дразнят, дают обидные прозвища, на агрессивные действия со стороны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на других детей он реагирует глупой улыбкой, старается отшутиться, убежать, плачет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хорошо ладит с учителями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и плохо со сверстниками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опаздывает к началу занятий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или поздно покидает школу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во время групповых игр, занятий, его игнорируют или выбирают последним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0" name="Picture 4" descr="bullying"/>
          <p:cNvPicPr/>
          <p:nvPr/>
        </p:nvPicPr>
        <p:blipFill>
          <a:blip r:embed="rId1"/>
          <a:stretch/>
        </p:blipFill>
        <p:spPr>
          <a:xfrm>
            <a:off x="5943600" y="304812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Сравнительная таблица психологических портретов </a:t>
            </a:r>
            <a:r>
              <a:rPr b="1" lang="ru-RU" sz="2400" spc="-1" strike="noStrike">
                <a:solidFill>
                  <a:srgbClr val="d8d8ec"/>
                </a:solidFill>
                <a:latin typeface="Arial"/>
              </a:rPr>
              <a:t>жертвы</a:t>
            </a: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d8d8ec"/>
                </a:solidFill>
                <a:latin typeface="Arial"/>
              </a:rPr>
              <a:t>агрессора</a:t>
            </a: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 и </a:t>
            </a:r>
            <a:br>
              <a:rPr sz="2400"/>
            </a:br>
            <a:r>
              <a:rPr b="1" lang="ru-RU" sz="2400" spc="-1" strike="noStrike">
                <a:solidFill>
                  <a:srgbClr val="d8d8ec"/>
                </a:solidFill>
                <a:latin typeface="Arial"/>
              </a:rPr>
              <a:t>уверенного в себе</a:t>
            </a:r>
            <a:r>
              <a:rPr b="1" lang="ru-RU" sz="2400" spc="-1" strike="noStrike">
                <a:solidFill>
                  <a:srgbClr val="cccc00"/>
                </a:solidFill>
                <a:latin typeface="Arial"/>
              </a:rPr>
              <a:t> ребенка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1371600"/>
          <a:ext cx="8610480" cy="5249880"/>
        </p:xfrm>
        <a:graphic>
          <a:graphicData uri="http://schemas.openxmlformats.org/drawingml/2006/table">
            <a:tbl>
              <a:tblPr/>
              <a:tblGrid>
                <a:gridCol w="914400"/>
                <a:gridCol w="3798720"/>
                <a:gridCol w="389736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Программа действий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Отношение к окружающим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Жертва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риносит себя в жертву, подавляет свои желания, чувства и эмоции, страдает, испытывает тревогу; позволяет другим делать выбор за себя; избегает конфликтов, не достигает своих целей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увствует симпатию, вину или презрение по отношению к соперникам, достигает своих целей за счет усидчивости и интеграции вне школы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грес-сор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ивается своих целей за счет других детей; предпочитает демонстративно выражать свои эмоции и причинять вред другим, делает выбор за других или оскорбляет, если его мнение игнорируют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увствует себя победителем, чаще нападает, чем защищается, как и аутсайдер, может оказаться в изоляции от сверстников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ccff"/>
                          </a:solidFill>
                          <a:latin typeface="Times New Roman"/>
                          <a:ea typeface="Times New Roman"/>
                        </a:rPr>
                        <a:t>Уверен-ный в себе ребенок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тверждает собственную позицию; действует в своих интересах; адекватно выражает свои чувства; уважает права других людей, своих целей обычно достигает, сохраняет уважение к себе и другим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Ощущает уважение к своим нуждам и способен открыто выражать свои мысли и чувства; имеет возможность достигать цели; стойко переносит конфликтные ситуации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Arial"/>
              </a:rPr>
              <a:t>Психологические аспекты профилактики буллинга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отношении постстрессовых последствий буллинга первичная профилактика реализуется по трем направлениям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1.     Создание условий недопущения буллинга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2.     Скорейшее и грамотное разобщение ребенка (подростка) с соответствующими стрессовыми воздействиям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3.     Укрепление защитных сил личности и организма в противостоянии травле как для условно здоровых детей и подростков, так и для уже имеющих соматическую или психическую патологию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В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условиях школы</a:t>
            </a: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 прямыми признаками психического насилия над учащимися считаются: 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угрозы в адрес обучающегося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преднамеренная изоляция обучающегося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предъявление к обучающемуся чрезмерных требований, не соответствующих возрасту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оскорбление и унижение достоинства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систематическая необоснованная критика ребенка, выводящая его из душевного равновесия; 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постоянная негативная характеристика обучающегося;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демонстративно негативное отношение к обучающемуся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Рекомендации учителям, психологам, администрациям шко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1. Начните с точного, приемлемого для вашего образовательного учреждения определения буллинга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2. Установите формы буллинга,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торые имеют место в вашей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школе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3. Узнайте, какими способами поддерживают свой авторитет учителя, административные работники, ученики школы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7" name="Picture 4" descr="bullying-300x158"/>
          <p:cNvPicPr/>
          <p:nvPr/>
        </p:nvPicPr>
        <p:blipFill>
          <a:blip r:embed="rId1"/>
          <a:stretch/>
        </p:blipFill>
        <p:spPr>
          <a:xfrm>
            <a:off x="6477120" y="2971800"/>
            <a:ext cx="2400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4. К организации действий следует приступать после исследования проблемы насилия в школе с помощью анкет, изучения специальной литерату­ры и видеозаписей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5. Обсуждение проблемы. Беседы со школьниками как индивидуальные, так и в группе очень важны и полезны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6. Определите поведение персонала школы, которое способствует позитивным межличностным отношениям между учащимися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86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7. Не исключайте из поля зрения «обидчиков». Обязательно беседуйте не только с виновными, но с их родите­лями, даже если это сложно сделать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Основные идеи по работе с компаниями обидчиков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 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работая с обидчиками, «разделяй и властвуй» - обидчиков нужно экстренно и эффективно разоблачать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 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е напирать на наказание, это только лишь усилит групповую солидарность обидчиков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  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работая с одним человеком, нужно умело использовать силу конфронтации всего, например, классного сообщества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441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8. Помогите ребёнку, который стал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жертвой, самому решить проблему,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нечно с помощью других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9. Конструктивно работайте с родителями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1" name="Picture 4" descr="44036-1"/>
          <p:cNvPicPr/>
          <p:nvPr/>
        </p:nvPicPr>
        <p:blipFill>
          <a:blip r:embed="rId1"/>
          <a:stretch/>
        </p:blipFill>
        <p:spPr>
          <a:xfrm>
            <a:off x="5562720" y="3352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0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3952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Технология реагирования на выявленные либо установленные факты буллинга (травли)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1. При установлении факта либо подозрение на существование ситуации буллирования специалист сообщает о сложившейся ситуации представителю администрац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2. Администрация, совместно с психологической службой школы принимает решение о неотложности реагирования на выявленный факт агресс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3.Непосредственная работа с жертвами и преследователям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Психолого-педагогические подходы к коррекции агрессивного поведения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86800" cy="468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7c80"/>
                </a:solidFill>
                <a:latin typeface="Arial"/>
              </a:rPr>
              <a:t>Первый шаг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– достижение гармонизации эмоциональной сферы подростков через организацию различных мероприятий и психологических акций: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бщешкольные мероприятия типа «Минута славы», «Фабрика звезд» и пр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«Доска знакомства» или «Наши открытия»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«День звезды», «День имени»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рганизация «Выставки достижений»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рганизация игр, которые способствуют редактированию негативных эмоций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7c80"/>
                </a:solidFill>
                <a:latin typeface="Arial"/>
              </a:rPr>
              <a:t>Второй шаг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—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еабилитация «Я»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Мероприятия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рганизация клубов или студий, в работе которых будут участвовать разные дети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Большие психологические игры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ндивидуальные коррекционные занятия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7c80"/>
                </a:solidFill>
                <a:latin typeface="Arial"/>
              </a:rPr>
              <a:t>Третий шаг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—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ереориентация поведения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через различные программы и тренинги, целью которых является модификация поведения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Как работать с агрессивными детьми: рекомендации для родителей и педагог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8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 зависимости от выявленных причин агрессии в работе со взрослыми необходимо делать несколько акцентов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зменение негативной установки по отношению к ребенку на позитивную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зменение стиля взаимодействия с детьм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асширение поведенческого репертуара родителей и педагогов через развитие их коммуникативных умений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7c80"/>
                </a:solidFill>
                <a:latin typeface="Arial"/>
              </a:rPr>
              <a:t>Практические рекомендации родителям и педагогам, как правильно вести себя с детьми, проявляющими агрессию в отношении взрослых или сверстников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1. Спокойное отношение в случае незначительной агресс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2. Акцентирование внимания на поступках (поведении), а не на личност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3. Контроль над собственными негативными эмоциям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4. Обсуждение проступка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5.Сохранение положительной репутации ребенка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6. Демонстрация модели неагрессивного поведения.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7. Снижение напряжения ситуации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8. Работа восстановительного примирения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Типы агрессии у детей и способы построения отношений с н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719360"/>
          <a:ext cx="8610480" cy="47847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47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1. Гиперактивно-агрессивный ребенок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Такие дети, воспитываясь в семье по типу «кумира» или в атмосфере вседозволенности, попадая в коллектив сверстников, могут стано­виться агрессивными.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о грамотно выстраивать систему ограничений, используя в том числе и игровые ситуации с правилами. Стимулируйте у детей умение признавать собственные ошибки. Учите их не сваливать свою вину на других. Развивайте чувство эмпатии, сочувствия к другим - сверстникам, взрослым и ко всему живому.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Arial"/>
              </a:rPr>
              <a:t>Школьному насилию способствуют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868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нонимность больших школ и отсутствие широкого выбора образовательных учреждений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лохой микроклимат в учительском коллективе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внодушное и безучастное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отношение учителей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5" descr="d6bcb062e4374edfb1ad0cf06a2b"/>
          <p:cNvPicPr/>
          <p:nvPr/>
        </p:nvPicPr>
        <p:blipFill>
          <a:blip r:embed="rId1"/>
          <a:stretch/>
        </p:blipFill>
        <p:spPr>
          <a:xfrm>
            <a:off x="6324480" y="441972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304920" y="609480"/>
          <a:ext cx="8534160" cy="586764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9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2. Агрессивно-обидчивый и истощаемый ребенок.</a:t>
                      </a:r>
                      <a:r>
                        <a:rPr b="0" i="1" lang="ru-RU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бидчивость ребенка может быть связана не только с недостатками в воспитании или трудностями обучения, но и с болезнью роста, особенностями созревания нервной системы и организма. Повышенная чувствительность, раздражительность, ранимость могут провоцировать агрессивное поведение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омогите ребенку разрядить психическое напряжение, повозитесь вместе с ним в шумной игре. И стремитесь избегать ситуаций перенапряжения, если ребенок почти всегда агрессивен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457200" y="122400"/>
          <a:ext cx="8229600" cy="658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3.</a:t>
                      </a:r>
                      <a:r>
                        <a:rPr b="0" i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Агрессивный ребенок с оппозиционно-вызывающим поведением.</a:t>
                      </a:r>
                      <a:r>
                        <a:rPr b="0" i="1" lang="ru-RU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Если ребенок часто грубит, но не всем, а только родителям и знакомым ему людям, то, наверное, в ваших взаимоотношениях что-то не так. Вы редко занимаетесь и общаетесь с ребенком; вы уже не образец для подражания, как раньше; ребенку скучно, нечем заняться, и он переносит на вас собственное настроение и проблемы, перекладывает ответственность за свое поведение.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опытайтесь решать проблемы вместе, в сотрудничестве с ребенком, но не за него. 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57200" y="1523880"/>
          <a:ext cx="8229600" cy="4724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4. Агрессивно-боязливый ребенок.</a:t>
                      </a:r>
                      <a:r>
                        <a:rPr b="0" i="1" lang="ru-RU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Враждебность, подозрительность могут быть средством зашиты ребенка от мнимой угрозы, «нападения». 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Работайте со страхами, моделируйте, то есть создавайте, опасную ситуацию и вместе с ребенком преодолевайте ее; при этом ситуация должна быть на грани приятного с неприятный с преобладанием приятного. 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7" name="Picture 15" descr="stock-photo-young-school-boy-bullying-another-in-school-playground-1641910"/>
          <p:cNvPicPr/>
          <p:nvPr/>
        </p:nvPicPr>
        <p:blipFill>
          <a:blip r:embed="rId1"/>
          <a:stretch/>
        </p:blipFill>
        <p:spPr>
          <a:xfrm>
            <a:off x="1676520" y="45720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28600" y="152280"/>
          <a:ext cx="8763120" cy="632484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63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5. Агрессивно-бесчувственный ребенок.</a:t>
                      </a:r>
                      <a:r>
                        <a:rPr b="0" i="1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Есть дети, у которых способность к эмоциональному отклику, сопереживанию, сочувствию к другим нарушена. Причины могут быть в неблагоприятных условиях семейного воспитания, нарушениях интеллектуального развития ребенка, а также в чертах эмоциональной холодности, черствости, уплощенности, повышенной аффективной (эмоциональной) возбудимости, которые передаются от родителей или близких ребенка. При этом ему трудно понять, что другому, то есть обиженному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, плохо или больно.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Старайтесь стимулировать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гуманные чувства у такого ребенка: жалейте, гладьте кошек и собак, ухаживайте за животными; обращайте внимание ребенка на грустное, подавленное состояние другого человека и стимулируйте желание помочь. Если это не помогает, приучайте ребенка нести ответственность - «отрабатывать» за свое агрессивное поведение («А теперь иди и извинись», «Погладь по голове», «Пожми руку», «Предложи игрушку обиженному тобой ребенку» и тому подобное).</a:t>
                      </a: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Направления коррекционной работы с агрессивными деть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834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1. Если агрессия является осознанным, контролируемым актом со стороны ребенка, то для взрослого важно не поддаться на эту манипуляцию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2. Если агрессия является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выражением гнева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озможно применение разнообразных стратегий воздействия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бучение детей контролю над своими эмоциями и способам выражения негативных чувств без вреда для окружающих людей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бучение умению предъявлять партнеру по общению свои чувства через их проговаривание и приглашение к сотрудничеству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ормирование таких качеств, как эмпатия, доверие к людям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07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ЛИТЕРАТУР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Берковиц Л. Агрессия: причины, последствия, контроль. — СПб.: Нева, 2002. — С. 248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Берон Р., Ричардсон Д. Агрессия. — СПб.: Питер, 2001. - С. 304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Гуггенбюль А. Зловещее очарование насилия. — СПб.: Академический проспект, 2002. – С. 98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Гребенкин Е.В. Профилактика агрессии и насилия в школе. – Ростов-на-Дону, «Феникс», 2006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лейберт Ю.А. Психология девиантного поведения. — М.: Сфера, 2001. — С. 47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Романова О.Л.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рограмма профилактики жестокости «Остановить жестокость». – М.: Глобус, 1996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еменюк Л.К. Психологические особенности агрессивного поведения подростков и условия его коррекции. — М.: Флинта, 1998. – С. 27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Мальцева О.А., Скрябина О.С. Профилактика жестокости и агрессивности в школьной среде и способы её преодоления </a:t>
            </a:r>
            <a:r>
              <a:rPr b="0" lang="ru-RU" sz="2100" spc="-1" strike="noStrike" u="sng">
                <a:solidFill>
                  <a:srgbClr val="ffff66"/>
                </a:solidFill>
                <a:uFillTx/>
                <a:latin typeface="Arial"/>
              </a:rPr>
              <a:t>https://ppt4web.ru/pedagogika/nasilie-v-shkole.html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13372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7c8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Влияние семьи на склонность детей к насилию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Неполные семьи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Семьи, в которых у матери отмечается негативное отношение к жизни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Властные и авторитарные семьи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Семьи, которые отличаются конфликтными семейными отношениями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Семьи с генетической предрасположенностью к насилию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Ошибочные стереотип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Травля- нормальный процесс взросления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Детей с необычным поведением будут обижать в любом коллективе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Учителям легко разобраться, кто зачинщик, а кто жертва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Травля происходит потому, что ребенок чем-то отличается от других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В ситуации травли задействованы две роли: зачинщика и жертвы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Опыт травли полезен для самой жертвы, может извлечь урок на будущее и изменить свое поведение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Ребенка необходимо научить давать сдачи. (Но парадокс в том, что от школьного насилия умение драться, как правило, не спасает. Так, если обидчиков несколько или они постарше, то побить или унизить  могут любого каратиста)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Формы агрессивного поведения у подростков девиантов являются взаимосвязанными факторами, что отражает  нарушенные внутрисемейные отношения, и распространяются на проявление личности в социальных группах, эмоциональную неустойчивость подростков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Picture 4" descr="bimg270032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</cp:lastModifiedBy>
  <dcterms:modified xsi:type="dcterms:W3CDTF">2019-01-17T10:55:26Z</dcterms:modified>
  <cp:revision>25</cp:revision>
  <dc:subject/>
  <dc:title>Профилактика жестокости и агрессивности в школьной среде и способы ее преодо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